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0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8DA-515A-4C80-873F-798925D6E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еди большого разнообразия решений по защите конфиденциальной информации, присутствующих на рынке, непросто выбрать продукт, отвечающий потребностям. В обзорном докладе рассматриваются угрозы информационной безопасности, на которых акцентируют внимание разработчики средств защиты, и анализируются технологии, применяемые для противодействия этим угрозам в предлагаемых ре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982320"/>
            <a:ext cx="8740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040" y="175248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98232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040" y="398232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281412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7520" y="1752480"/>
            <a:ext cx="281412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752480"/>
            <a:ext cx="281412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982320"/>
            <a:ext cx="281412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7520" y="3982320"/>
            <a:ext cx="281412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3982320"/>
            <a:ext cx="281412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2652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040" y="1752480"/>
            <a:ext cx="42652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040" y="1752480"/>
            <a:ext cx="42652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98232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2652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040" y="175248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040" y="398232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040" y="1752480"/>
            <a:ext cx="426528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982320"/>
            <a:ext cx="8740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76360" y="-360"/>
            <a:ext cx="7848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Выставка информационных технологий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oftool'2008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6800"/>
            <a:ext cx="241128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png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fowatch.ru/" TargetMode="External"/><Relationship Id="rId2" Type="http://schemas.openxmlformats.org/officeDocument/2006/relationships/hyperlink" Target="http://www.pgp.com/" TargetMode="External"/><Relationship Id="rId3" Type="http://schemas.openxmlformats.org/officeDocument/2006/relationships/hyperlink" Target="http://www.checkpoint.com/" TargetMode="External"/><Relationship Id="rId4" Type="http://schemas.openxmlformats.org/officeDocument/2006/relationships/hyperlink" Target="http://www.utimaco.com/" TargetMode="External"/><Relationship Id="rId5" Type="http://schemas.openxmlformats.org/officeDocument/2006/relationships/hyperlink" Target="http://www.securstar.com/" TargetMode="External"/><Relationship Id="rId6" Type="http://schemas.openxmlformats.org/officeDocument/2006/relationships/hyperlink" Target="http://www.securstar.com/" TargetMode="External"/><Relationship Id="rId7" Type="http://schemas.openxmlformats.org/officeDocument/2006/relationships/hyperlink" Target="http://www.securstar.com/" TargetMode="External"/><Relationship Id="rId8" Type="http://schemas.openxmlformats.org/officeDocument/2006/relationships/hyperlink" Target="http://www.securstar.com/" TargetMode="External"/><Relationship Id="rId9" Type="http://schemas.openxmlformats.org/officeDocument/2006/relationships/hyperlink" Target="http://www.securstar.com/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ставка информационных технологий Softool'2008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ые реш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бласти защиты конфиденциаль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ванов Александр Геннадьевич,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иректор «РусКрип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ие остались проблем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иерархии доступа к информации внут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 вложенность виртуальных дисков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ря производ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с подключенного на сервере диска передаются по сети в открытом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 к диску регулируется ОС – отсутствует защита от сисад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 драйвер более высок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админу нужен доступ к системному диску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разовые па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8120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зрачно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ифрование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 дисков к папкам и файла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 и запись по сети содержимого  файла в зашифрованном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данных используемого файла от несанкционированного дост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твращение переименования, перемещения и безвозвратного удаления защищенных папок и файлов, в том числе и содержащихся в них файлов-контейн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ледование файлом свойств защищенной папки обеспечи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строение иерархической структуры доступа к 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щиту временных файлов и файлов автос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 пароля к трехуровневой ключевой систем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1598760" cy="1793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53028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rot="5400000">
            <a:off x="1819080" y="4597560"/>
            <a:ext cx="322560" cy="57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5400000">
            <a:off x="2411280" y="4510080"/>
            <a:ext cx="1152360" cy="863640"/>
          </a:xfrm>
          <a:custGeom>
            <a:avLst/>
            <a:gdLst>
              <a:gd name="textAreaLeft" fmla="*/ 253440 w 1152360"/>
              <a:gd name="textAreaRight" fmla="*/ 898920 w 1152360"/>
              <a:gd name="textAreaTop" fmla="*/ 189720 h 863640"/>
              <a:gd name="textAreaBottom" fmla="*/ 673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700360" y="4581360"/>
            <a:ext cx="576360" cy="35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11640600">
            <a:off x="2770920" y="4941360"/>
            <a:ext cx="505080" cy="365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 rot="11311800">
            <a:off x="3634560" y="3789000"/>
            <a:ext cx="505080" cy="365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rot="11608200">
            <a:off x="3564000" y="4508280"/>
            <a:ext cx="504720" cy="365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 rot="11650200">
            <a:off x="3564000" y="5157360"/>
            <a:ext cx="504720" cy="36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995640" y="4076640"/>
            <a:ext cx="266760" cy="289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3995640" y="4724280"/>
            <a:ext cx="266760" cy="28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3924360" y="5373720"/>
            <a:ext cx="264960" cy="28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 rot="12733800">
            <a:off x="4427280" y="4076280"/>
            <a:ext cx="465120" cy="3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 rot="10508400">
            <a:off x="4355280" y="4653000"/>
            <a:ext cx="576360" cy="331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 rot="12131400">
            <a:off x="4427280" y="5300640"/>
            <a:ext cx="506160" cy="30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357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люч цен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3860640"/>
            <a:ext cx="432000" cy="792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3645000"/>
            <a:ext cx="792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16280"/>
            <a:ext cx="25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щищенный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516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люч шиф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79640" y="5013000"/>
            <a:ext cx="0" cy="6476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2781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4005360"/>
            <a:ext cx="289080" cy="172872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458136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лючи пользов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витие механизмов у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централизованный обмен ключ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трализованное предоставление клю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щение конфигурационных файлов в определенных местах в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трализованный серв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ндартные роли пользова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1222200" cy="11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86544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443640" y="2924280"/>
            <a:ext cx="7128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427640" y="4437000"/>
            <a:ext cx="1001520" cy="100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372360" y="414972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1908000" y="3789360"/>
            <a:ext cx="790920" cy="703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2484360" y="3645000"/>
            <a:ext cx="1079640" cy="863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700360" y="184464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5435640" y="2708280"/>
            <a:ext cx="1087560" cy="115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 flipH="1">
            <a:off x="5651280" y="1844640"/>
            <a:ext cx="688680" cy="722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 flipH="1">
            <a:off x="3924360" y="4653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91628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ый админист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177336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министратор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087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л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5445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2276640"/>
            <a:ext cx="1871640" cy="0"/>
          </a:xfrm>
          <a:prstGeom prst="line">
            <a:avLst/>
          </a:prstGeom>
          <a:ln w="15228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349360"/>
            <a:ext cx="0" cy="2159280"/>
          </a:xfrm>
          <a:prstGeom prst="line">
            <a:avLst/>
          </a:prstGeom>
          <a:ln w="152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3284640"/>
            <a:ext cx="79236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35280" y="3933720"/>
            <a:ext cx="93672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полнительные возмож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ие мета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гины к прожига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/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расная» кнопка и потайные файлы-контей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перативной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ие клю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втоном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централизов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миссия (кворум ключ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фрование несколькими алгорит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ение диска случайной последова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то будет дальше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тальная за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нтролируемая достовер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щита данных и ка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нтроль за внешними устройствами и пор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«одной консо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ованные политики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пользованные материал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Вотч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fowatch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птоПро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cryptopro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тех-соф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strongdis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аддин Р.Д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aladdin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текс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infotec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системы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atlansy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ecurI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securi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oSecure Softw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ww.gosecure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P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gp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Af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mcafe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Point –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heckpoin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ic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ic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timac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timac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St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ecursta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ypherix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cypherix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uardianEdge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guardianedg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тапы разви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варительн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ф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фрование файлов и буферов (для поч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расшифровывающиеся арх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аиваемые плагины в почтовые системы и текстовые ред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пто  библиотеки, крип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рипто провайд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достатки предварительног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иф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добство работы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тивное удаление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литы гарантированного уда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тки конфиденциальной информации на ди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литы вытирания «хвостов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файлов и свободного места на дис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 плагинов к драйвера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зрачно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фр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ртуальные ди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резиновые», сжимаемые, наращив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стоянные и съ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точки мон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теган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тономные виртуальные ди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блемы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ртуальных дис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пользовательский до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защиты временных файлов и файлов подка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щищенность файла-контейнера от перемещения или уда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ение списка файлов-контейнеров н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ьном компьютере для их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работы с виртуаль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ами и потеря их скры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 виртуальных дисков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 реальны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еские разделы жестких дис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 создания защищенных дисков к установк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инамический режим установки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езопасный режим шифрования/перешиф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 Storage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ссивы и динамические 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рость шифрования жесткого дис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4080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19280" y="2205000"/>
                <a:ext cx="612144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ш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ш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чем шифровать системный диск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ит загружаемые модули – необходимость обеспечения доверенной программной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щаются временные файлы и файлы подкачки операцион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яе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dum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амяти – для защиты секретных ключей и обеспечения режи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er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solidFill>
            <a:srgbClr val="8d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 драйверов к загрузчика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40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тальное шифрование жесткого д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загрузочных и системных разде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операционные з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P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BitLock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ленная загрузк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9:19:22Z</dcterms:created>
  <dc:creator>Ivanov A.G.</dc:creator>
  <dc:description/>
  <dc:language>en-US</dc:language>
  <cp:lastModifiedBy>АТЛОН 1700</cp:lastModifiedBy>
  <dcterms:modified xsi:type="dcterms:W3CDTF">2008-10-01T21:14:39Z</dcterms:modified>
  <cp:revision>13</cp:revision>
  <dc:subject/>
  <dc:title>Слайд 1</dc:title>
</cp:coreProperties>
</file>